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1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0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61.jpeg" ContentType="image/jpeg"/>
  <Override PartName="/ppt/media/image2.png" ContentType="image/png"/>
  <Override PartName="/ppt/media/image25.jpeg" ContentType="image/jpeg"/>
  <Override PartName="/ppt/media/image35.jpeg" ContentType="image/jpeg"/>
  <Override PartName="/ppt/media/image1.jpeg" ContentType="image/jpeg"/>
  <Override PartName="/ppt/media/image3.png" ContentType="image/png"/>
  <Override PartName="/ppt/media/image56.jpeg" ContentType="image/jpeg"/>
  <Override PartName="/ppt/media/image17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60.jpeg" ContentType="image/jpeg"/>
  <Override PartName="/ppt/media/image37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7.jpeg" ContentType="image/jpeg"/>
  <Override PartName="/ppt/media/image38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39.jpeg" ContentType="image/jpeg"/>
  <Override PartName="/ppt/media/image13.jpeg" ContentType="image/jpeg"/>
  <Override PartName="/ppt/media/image40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36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3.jpeg" ContentType="image/jpeg"/>
  <Override PartName="/ppt/media/image54.jpeg" ContentType="image/jpeg"/>
  <Override PartName="/ppt/media/image55.jpeg" ContentType="image/jpeg"/>
  <Override PartName="/ppt/media/image57.jpeg" ContentType="image/jpeg"/>
  <Override PartName="/ppt/media/image5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D25B-CADD-4E2F-A859-B8E32B6CE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4A18-BF24-4455-A031-1D827A1BD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41C8-A9AA-4FB2-84DC-B5CC0879C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B317-646B-4C08-89E9-2CEE7F6EE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E6BC0-4939-41DA-AB8D-170084D48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2E906-B724-4F31-9028-8141D853E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A4080-A7B7-40F9-A1D2-3EF039560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9CA4D-DE72-47B3-AF57-18AADC968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78AE3-65D5-43EC-977D-2F46E2C20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CF719-AC62-4203-B4B4-5E9D2DDBB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62A69-A5E3-41CD-BB0C-E85664441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CA02-8225-4314-AADF-51D1C6A8C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20D91-A7A5-40A2-A12E-1123E633D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4C297-AC45-49C9-A4A6-D6E1A8F80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C8271-424D-4C7F-9059-A2945B2BD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0B7F0-430F-46E0-A41B-550E1B7D5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D0CC4-9502-4098-90A3-5864EE101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8F54-98C7-4396-833B-6FD365F3A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B9C7-97C4-4B46-AF2A-923852C07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40E0-4A79-4A85-97D7-D8BC89A7B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8412-D2B1-4BBA-B70A-26E9E63DD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B4FA-BFCF-4EBF-9CA8-0DF5D6211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D6BD-39F0-4295-8149-8E697FEC3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13A5-D34A-489F-AFD3-08E812D75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410C5-70E6-4EAD-AECA-53BCFD66B6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F48EE-A367-44EE-995B-8DFC267041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3.png"/><Relationship Id="rId3" Type="http://schemas.openxmlformats.org/officeDocument/2006/relationships/image" Target="../media/image47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image" Target="../media/image52.jpeg"/><Relationship Id="rId5" Type="http://schemas.openxmlformats.org/officeDocument/2006/relationships/image" Target="../media/image53.jpeg"/><Relationship Id="rId6" Type="http://schemas.openxmlformats.org/officeDocument/2006/relationships/image" Target="../media/image54.jpeg"/><Relationship Id="rId7" Type="http://schemas.openxmlformats.org/officeDocument/2006/relationships/image" Target="../media/image55.jpeg"/><Relationship Id="rId8" Type="http://schemas.openxmlformats.org/officeDocument/2006/relationships/image" Target="../media/image56.jpeg"/><Relationship Id="rId9" Type="http://schemas.openxmlformats.org/officeDocument/2006/relationships/image" Target="../media/image57.jpe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jpeg"/><Relationship Id="rId3" Type="http://schemas.openxmlformats.org/officeDocument/2006/relationships/image" Target="../media/image60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96360" cy="688356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646200" y="5084640"/>
            <a:ext cx="8497800" cy="15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ffff"/>
                </a:solidFill>
                <a:latin typeface="Harrington"/>
              </a:rPr>
              <a:t>The Beatles Exhibitio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Harrington"/>
              </a:rPr>
              <a:t>June 2007 - Instituto San Francisco de Así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468360" y="5734080"/>
            <a:ext cx="676080" cy="7333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3"/>
          <a:stretch/>
        </p:blipFill>
        <p:spPr>
          <a:xfrm>
            <a:off x="867564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7000"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 repeatCount="1000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2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932000" y="277920"/>
            <a:ext cx="3754440" cy="27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ecff"/>
                </a:solidFill>
                <a:latin typeface="Georgia"/>
              </a:rPr>
              <a:t>3rd A and B made posters and described The Beatle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643280" cy="348300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4464000" y="3348000"/>
            <a:ext cx="4680000" cy="351000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3"/>
          <a:stretch/>
        </p:blipFill>
        <p:spPr>
          <a:xfrm>
            <a:off x="0" y="3375000"/>
            <a:ext cx="4643280" cy="3483000"/>
          </a:xfrm>
          <a:prstGeom prst="rect">
            <a:avLst/>
          </a:prstGeom>
          <a:ln w="0">
            <a:noFill/>
          </a:ln>
        </p:spPr>
      </p:pic>
    </p:spTree>
  </p:cSld>
  <p:transition advTm="7000"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3564000" y="2811600"/>
            <a:ext cx="5580000" cy="40464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4643280" y="0"/>
            <a:ext cx="2262240" cy="285264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6897600" y="0"/>
            <a:ext cx="2246400" cy="285264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4"/>
          <a:stretch/>
        </p:blipFill>
        <p:spPr>
          <a:xfrm>
            <a:off x="0" y="0"/>
            <a:ext cx="3564000" cy="458136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5"/>
          <a:stretch/>
        </p:blipFill>
        <p:spPr>
          <a:xfrm>
            <a:off x="0" y="4557600"/>
            <a:ext cx="3564000" cy="230040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2627280" y="0"/>
            <a:ext cx="19796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eorgia"/>
              </a:rPr>
              <a:t>6th A  and B answered questions about the pos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7000"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620640"/>
            <a:ext cx="21240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eorgia"/>
              </a:rPr>
              <a:t>2nd Hum, 3rd CBU and       3rd Hum compared the message in Imagine and two other son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7000"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3827520" cy="29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ecff"/>
                </a:solidFill>
                <a:latin typeface="Georgia"/>
              </a:rPr>
              <a:t>3rd Hum also commented on some John Lennon quote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0" y="3373560"/>
            <a:ext cx="4643280" cy="348444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3"/>
          <a:stretch/>
        </p:blipFill>
        <p:spPr>
          <a:xfrm>
            <a:off x="4608360" y="3456000"/>
            <a:ext cx="4535640" cy="3402000"/>
          </a:xfrm>
          <a:prstGeom prst="rect">
            <a:avLst/>
          </a:prstGeom>
          <a:ln w="0">
            <a:noFill/>
          </a:ln>
        </p:spPr>
      </p:pic>
    </p:spTree>
  </p:cSld>
  <p:transition advTm="7000">
    <p:cover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178920" y="189000"/>
            <a:ext cx="873468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Georgia"/>
              </a:rPr>
              <a:t>As an optional project students from 3rd CBU and 3rd H could choose any aspect of The Beatles to work on and produce a poster. Here are the results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4788000" y="3807000"/>
            <a:ext cx="4066920" cy="30510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324000" y="3773520"/>
            <a:ext cx="4211640" cy="3084480"/>
          </a:xfrm>
          <a:prstGeom prst="rect">
            <a:avLst/>
          </a:prstGeom>
          <a:ln w="0">
            <a:noFill/>
          </a:ln>
        </p:spPr>
      </p:pic>
    </p:spTree>
  </p:cSld>
  <p:transition advTm="7000">
    <p:cover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1763640" y="3645000"/>
            <a:ext cx="5545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Georgia"/>
              </a:rPr>
              <a:t>Some chose to work on their lives as a group 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7000">
    <p:cover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624640" cy="685800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5724360" y="404640"/>
            <a:ext cx="3024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Georgia"/>
              </a:rPr>
              <a:t>… </a:t>
            </a:r>
            <a:r>
              <a:rPr b="0" lang="es-ES" sz="4000" spc="-1" strike="noStrike">
                <a:solidFill>
                  <a:srgbClr val="ffffff"/>
                </a:solidFill>
                <a:latin typeface="Georgia"/>
              </a:rPr>
              <a:t>or individually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5867280" y="2492280"/>
            <a:ext cx="3078360" cy="4103640"/>
          </a:xfrm>
          <a:prstGeom prst="rect">
            <a:avLst/>
          </a:prstGeom>
          <a:ln w="0">
            <a:noFill/>
          </a:ln>
        </p:spPr>
      </p:pic>
    </p:spTree>
  </p:cSld>
  <p:transition advTm="7000">
    <p:cover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7000">
    <p:cover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7000">
    <p:cover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4248000" y="0"/>
            <a:ext cx="4896000" cy="685800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0" y="692280"/>
            <a:ext cx="4232160" cy="5516280"/>
          </a:xfrm>
          <a:prstGeom prst="rect">
            <a:avLst/>
          </a:prstGeom>
          <a:ln w="0">
            <a:noFill/>
          </a:ln>
        </p:spPr>
      </p:pic>
    </p:spTree>
  </p:cSld>
  <p:transition advTm="7000"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71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ecff"/>
                </a:solidFill>
                <a:latin typeface="Georgia"/>
              </a:rPr>
              <a:t>During the month of June we hosted theBeatles Exhibition, which was kindly lent to us by the British Council.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50920" y="4797360"/>
            <a:ext cx="82296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eorgia"/>
              </a:rPr>
              <a:t>The exhibition consisted of 18 posters with information about The Beatles care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eorgia"/>
              </a:rPr>
              <a:t>All the students in our school saw the exhibition and carried out activities related to The Beatl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eorgia"/>
              </a:rPr>
              <a:t>Come and join us in this tour of our students’ project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24000" y="4797360"/>
            <a:ext cx="8208720" cy="1654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324000" y="1052640"/>
            <a:ext cx="2730240" cy="363996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3132000" y="1052640"/>
            <a:ext cx="2679840" cy="357336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5867280" y="1052640"/>
            <a:ext cx="2694240" cy="3592440"/>
          </a:xfrm>
          <a:prstGeom prst="rect">
            <a:avLst/>
          </a:prstGeom>
          <a:ln w="0">
            <a:noFill/>
          </a:ln>
        </p:spPr>
      </p:pic>
    </p:spTree>
  </p:cSld>
  <p:transition advTm="7000">
    <p:cover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680000" cy="336060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4643280" y="0"/>
            <a:ext cx="4500720" cy="335772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3"/>
          <a:stretch/>
        </p:blipFill>
        <p:spPr>
          <a:xfrm>
            <a:off x="4643280" y="3357720"/>
            <a:ext cx="4500720" cy="350028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4"/>
          <a:stretch/>
        </p:blipFill>
        <p:spPr>
          <a:xfrm>
            <a:off x="0" y="3357720"/>
            <a:ext cx="4643280" cy="350028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0" y="1628640"/>
            <a:ext cx="370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Georgia"/>
              </a:rPr>
              <a:t>Some chose to write about John’s death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7000">
    <p:cover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29600" cy="685800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250920" y="0"/>
            <a:ext cx="849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eorgia"/>
              </a:rPr>
              <a:t>Some chose to write about society at their time and their influen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7000">
    <p:cover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076720" cy="666900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>
            <a:off x="5003640" y="0"/>
            <a:ext cx="4140360" cy="6858000"/>
          </a:xfrm>
          <a:prstGeom prst="rect">
            <a:avLst/>
          </a:prstGeom>
          <a:ln w="0">
            <a:noFill/>
          </a:ln>
        </p:spPr>
      </p:pic>
    </p:spTree>
  </p:cSld>
  <p:transition advTm="7000">
    <p:cover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395280" y="404640"/>
            <a:ext cx="3276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Georgia"/>
              </a:rPr>
              <a:t>Some wrote about their music 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7000">
    <p:cover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7000">
    <p:cover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7000">
    <p:cover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2"/>
          <a:stretch/>
        </p:blipFill>
        <p:spPr>
          <a:xfrm>
            <a:off x="7736040" y="4724280"/>
            <a:ext cx="1407960" cy="1913040"/>
          </a:xfrm>
          <a:prstGeom prst="rect">
            <a:avLst/>
          </a:prstGeom>
          <a:ln w="0">
            <a:noFill/>
          </a:ln>
        </p:spPr>
      </p:pic>
    </p:spTree>
  </p:cSld>
  <p:transition advTm="7000">
    <p:cover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45120" cy="685800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5435640" y="692280"/>
            <a:ext cx="3457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Georgia"/>
              </a:rPr>
              <a:t>They translated songs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2"/>
          <a:stretch/>
        </p:blipFill>
        <p:spPr>
          <a:xfrm>
            <a:off x="7956720" y="6021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3"/>
          <a:stretch/>
        </p:blipFill>
        <p:spPr>
          <a:xfrm>
            <a:off x="5867280" y="2708280"/>
            <a:ext cx="2952720" cy="2952720"/>
          </a:xfrm>
          <a:prstGeom prst="rect">
            <a:avLst/>
          </a:prstGeom>
          <a:ln w="0">
            <a:noFill/>
          </a:ln>
        </p:spPr>
      </p:pic>
    </p:spTree>
  </p:cSld>
  <p:transition advTm="7000">
    <p:cover dir="l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">
                                      <p:cBhvr>
                                        <p:cTn id="12" dur="1" fill="hold"/>
                                        <p:tgtEl>
                                          <p:spTgt spid="2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179280" y="4365720"/>
            <a:ext cx="2880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Georgia"/>
              </a:rPr>
              <a:t>…</a:t>
            </a:r>
            <a:r>
              <a:rPr b="0" lang="es-ES" sz="3600" spc="-1" strike="noStrike">
                <a:solidFill>
                  <a:srgbClr val="ffffff"/>
                </a:solidFill>
                <a:latin typeface="Georgia"/>
              </a:rPr>
              <a:t>or compared them to Elvi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7000">
    <p:cover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694560" cy="367344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2"/>
          <a:stretch/>
        </p:blipFill>
        <p:spPr>
          <a:xfrm>
            <a:off x="0" y="3660840"/>
            <a:ext cx="4500720" cy="319716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3"/>
          <a:stretch/>
        </p:blipFill>
        <p:spPr>
          <a:xfrm>
            <a:off x="4500720" y="3670200"/>
            <a:ext cx="4643280" cy="318780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4"/>
          <a:stretch/>
        </p:blipFill>
        <p:spPr>
          <a:xfrm>
            <a:off x="6615000" y="0"/>
            <a:ext cx="2529000" cy="364500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179280" y="1052640"/>
            <a:ext cx="3276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Georgia"/>
              </a:rPr>
              <a:t>Others focused on their films 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5"/>
          <a:stretch/>
        </p:blipFill>
        <p:spPr>
          <a:xfrm>
            <a:off x="179280" y="3789360"/>
            <a:ext cx="1258920" cy="109224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6"/>
          <a:stretch/>
        </p:blipFill>
        <p:spPr>
          <a:xfrm>
            <a:off x="4932360" y="5734080"/>
            <a:ext cx="1357200" cy="98100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7"/>
          <a:stretch/>
        </p:blipFill>
        <p:spPr>
          <a:xfrm>
            <a:off x="6948360" y="333360"/>
            <a:ext cx="1984680" cy="295128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8"/>
          <a:stretch/>
        </p:blipFill>
        <p:spPr>
          <a:xfrm>
            <a:off x="5292720" y="3716280"/>
            <a:ext cx="1133640" cy="175752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9"/>
          <a:stretch/>
        </p:blipFill>
        <p:spPr>
          <a:xfrm>
            <a:off x="179280" y="5229360"/>
            <a:ext cx="1094040" cy="1484280"/>
          </a:xfrm>
          <a:prstGeom prst="rect">
            <a:avLst/>
          </a:prstGeom>
          <a:ln w="0">
            <a:noFill/>
          </a:ln>
        </p:spPr>
      </p:pic>
    </p:spTree>
  </p:cSld>
  <p:transition advTm="7000"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6264360" cy="62643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6732720" y="1773360"/>
            <a:ext cx="20365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Georgia"/>
              </a:rPr>
              <a:t>These are some of the post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7000">
    <p:cover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88000" cy="338940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2"/>
          <a:stretch/>
        </p:blipFill>
        <p:spPr>
          <a:xfrm>
            <a:off x="4767120" y="0"/>
            <a:ext cx="4376880" cy="685800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0" y="3500280"/>
            <a:ext cx="18716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Georgia"/>
              </a:rPr>
              <a:t>… </a:t>
            </a:r>
            <a:r>
              <a:rPr b="0" lang="es-ES" sz="4000" spc="-1" strike="noStrike">
                <a:solidFill>
                  <a:srgbClr val="ffffff"/>
                </a:solidFill>
                <a:latin typeface="Georgia"/>
              </a:rPr>
              <a:t>their look and clothes 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3"/>
          <a:stretch/>
        </p:blipFill>
        <p:spPr>
          <a:xfrm>
            <a:off x="1979640" y="3500280"/>
            <a:ext cx="2741760" cy="3213360"/>
          </a:xfrm>
          <a:prstGeom prst="rect">
            <a:avLst/>
          </a:prstGeom>
          <a:ln w="0">
            <a:noFill/>
          </a:ln>
        </p:spPr>
      </p:pic>
    </p:spTree>
  </p:cSld>
  <p:transition advTm="7000">
    <p:cover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0" y="692280"/>
            <a:ext cx="9144000" cy="616572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250920" y="0"/>
            <a:ext cx="864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Georgia"/>
              </a:rPr>
              <a:t>…</a:t>
            </a:r>
            <a:r>
              <a:rPr b="0" lang="es-ES" sz="4000" spc="-1" strike="noStrike">
                <a:solidFill>
                  <a:srgbClr val="ffffff"/>
                </a:solidFill>
                <a:latin typeface="Georgia"/>
              </a:rPr>
              <a:t>and their concern with </a:t>
            </a:r>
            <a:r>
              <a:rPr b="1" lang="es-ES" sz="4000" spc="-1" strike="noStrike">
                <a:solidFill>
                  <a:srgbClr val="ffffff"/>
                </a:solidFill>
                <a:latin typeface="Georgia"/>
              </a:rPr>
              <a:t>peace</a:t>
            </a:r>
            <a:r>
              <a:rPr b="0" lang="es-ES" sz="4000" spc="-1" strike="noStrike">
                <a:solidFill>
                  <a:srgbClr val="ffffff"/>
                </a:solidFill>
                <a:latin typeface="Georgia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7000">
    <p:cover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324000" y="476280"/>
            <a:ext cx="8280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Georgia"/>
              </a:rPr>
              <a:t>We hope you have enjoyed this tour of our students’ hard work on one of the most favourite bands ever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932360" y="3716280"/>
            <a:ext cx="3816360" cy="29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Georgia"/>
              </a:rPr>
              <a:t>Our staff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Georgia"/>
              </a:rPr>
              <a:t>Miss Ale Villarre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Georgia"/>
              </a:rPr>
              <a:t>Miss Ale De Mauric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Georgia"/>
              </a:rPr>
              <a:t>Miss María Elena Fernánde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Georgia"/>
              </a:rPr>
              <a:t>Miss Pat del Castill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Georgia"/>
              </a:rPr>
              <a:t>Miss Mirta Frieir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Georgia"/>
              </a:rPr>
              <a:t>Miss Vicky Saume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3132000" y="4581360"/>
            <a:ext cx="1327320" cy="1440000"/>
          </a:xfrm>
          <a:prstGeom prst="rect">
            <a:avLst/>
          </a:prstGeom>
          <a:ln w="0">
            <a:noFill/>
          </a:ln>
        </p:spPr>
      </p:pic>
    </p:spTree>
  </p:cSld>
  <p:transition advTm="7000"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 txBox="1"/>
          <p:nvPr/>
        </p:nvSpPr>
        <p:spPr>
          <a:xfrm>
            <a:off x="3203640" y="1844640"/>
            <a:ext cx="575928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2nd 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3860640"/>
            <a:ext cx="3168720" cy="2997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7000"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ecff"/>
                </a:solidFill>
                <a:latin typeface="Georgia"/>
              </a:rPr>
              <a:t>2nd A brought pictures and wrote about The Beatle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395280" y="1346040"/>
            <a:ext cx="8426520" cy="5511960"/>
          </a:xfrm>
          <a:prstGeom prst="rect">
            <a:avLst/>
          </a:prstGeom>
          <a:ln w="0">
            <a:noFill/>
          </a:ln>
        </p:spPr>
      </p:pic>
    </p:spTree>
  </p:cSld>
  <p:transition advTm="7000"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 txBox="1"/>
          <p:nvPr/>
        </p:nvSpPr>
        <p:spPr>
          <a:xfrm>
            <a:off x="1042920" y="836640"/>
            <a:ext cx="3662280" cy="647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2nd 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30" name=""/>
          <p:cNvSpPr/>
          <p:nvPr/>
        </p:nvSpPr>
        <p:spPr>
          <a:xfrm>
            <a:off x="6156360" y="3860640"/>
            <a:ext cx="2987640" cy="2737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7000"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ecff"/>
                </a:solidFill>
                <a:latin typeface="Georgia"/>
              </a:rPr>
              <a:t>2nd B also brought photos and wrote about The Beatle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468360" y="1374840"/>
            <a:ext cx="8207280" cy="5294160"/>
          </a:xfrm>
          <a:prstGeom prst="rect">
            <a:avLst/>
          </a:prstGeom>
          <a:ln w="0">
            <a:noFill/>
          </a:ln>
        </p:spPr>
      </p:pic>
    </p:spTree>
  </p:cSld>
  <p:transition advTm="7000"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7000"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7000"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0T22:54:31Z</dcterms:created>
  <dc:creator>Vicky</dc:creator>
  <dc:description/>
  <dc:language>en-US</dc:language>
  <cp:lastModifiedBy>Vicky</cp:lastModifiedBy>
  <dcterms:modified xsi:type="dcterms:W3CDTF">2007-08-20T12:17:07Z</dcterms:modified>
  <cp:revision>8</cp:revision>
  <dc:subject/>
  <dc:title>Diapositiva 1</dc:title>
</cp:coreProperties>
</file>