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ACF-63C3-40D0-BFE1-2E43810D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337-6DBC-42AC-BB9F-E34F607A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0B8-56B2-4496-BC77-FD705FB8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191-B659-48FE-8E47-9BE5EBA4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A07C-0591-4857-AE32-043F07E7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B9B7-D460-4E2F-BD1A-85A3D4E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6D5B-ABEE-466E-8B8D-AC3FDDFE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C812-B4D5-4C89-A965-C6179C56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6FC8-E74E-4695-8EB7-7C34FAC6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91C-01B5-431F-98B5-1257615D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8044-7104-405E-BAA0-AF3BCBFA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045-CDC8-4377-9AAC-687415A9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E3AE-F6A7-452B-8997-5D30EBC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7E33-20B0-40A8-A93D-61EA060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9A8F-6F44-4524-A759-F3060214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CE83-1F44-4DF3-AA05-1D59BAC6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E2F6-F324-4798-A019-CBE67771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57A-3C1F-4329-B4DB-C6787289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977-EC0F-4BCF-ABF7-3EA1810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011-87AC-4C66-908B-AC47DEC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EDA-076C-47D4-9735-44FAA4AD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397-3F5D-4B59-81B2-B386481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52F-93B2-45E0-8E41-C949557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BC3-053A-4515-9F1B-1B47679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4C4D-02A6-4C3B-B8DD-2E3AF0A7F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9373-79E4-4E76-B697-5E9D33548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8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46200" y="5084640"/>
            <a:ext cx="84978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Harrington"/>
              </a:rPr>
              <a:t>The Beatles Exhibi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Harrington"/>
              </a:rPr>
              <a:t>June 2007 - Instituto San Francisco de As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5734080"/>
            <a:ext cx="67608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32000" y="277920"/>
            <a:ext cx="3754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A and B made posters and described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464000" y="3348000"/>
            <a:ext cx="4680000" cy="3510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564000" y="2811600"/>
            <a:ext cx="5580000" cy="4046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2262240" cy="285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897600" y="0"/>
            <a:ext cx="224640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4581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0" y="4557600"/>
            <a:ext cx="3564000" cy="2300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627280" y="0"/>
            <a:ext cx="197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6th A  and B answered questions about the p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620640"/>
            <a:ext cx="212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2nd Hum, 3rd CBU and       3rd Hum compared the message in Imagine and two other 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82752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3rd Hum also commented on some John Lennon quo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608360" y="345600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346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As an optional project students from 3rd CBU and 3rd H could choose any aspect of The Beatles to work on and produce a poster. Here are the result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788000" y="3807000"/>
            <a:ext cx="4066920" cy="3051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4000" y="3773520"/>
            <a:ext cx="4211640" cy="30844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63640" y="3645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chose to work on their lives as a group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2464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724360" y="404640"/>
            <a:ext cx="30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r individua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867280" y="2492280"/>
            <a:ext cx="3078360" cy="41036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248000" y="0"/>
            <a:ext cx="4896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232160" cy="5516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Georgia"/>
              </a:rPr>
              <a:t>During the month of June we hosted theBeatles Exhibition, which was kindly lent to us by the British Counci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The exhibition consisted of 18 posters with information about The Beatles car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All the students in our school saw the exhibition and carried out activities related to The Beat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eorgia"/>
              </a:rPr>
              <a:t>Come and join us in this tour of our students’ pro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797360"/>
            <a:ext cx="8208720" cy="16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0240" cy="363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32000" y="1052640"/>
            <a:ext cx="2679840" cy="35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867280" y="1052640"/>
            <a:ext cx="2694240" cy="35924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360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1628640"/>
            <a:ext cx="37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Some chose to write about John’s dea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5092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eorgia"/>
              </a:rPr>
              <a:t>Some chose to write about society at their time and their infl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669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95280" y="404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Some wrote about their music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736040" y="4724280"/>
            <a:ext cx="1407960" cy="191304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435640" y="692280"/>
            <a:ext cx="345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y translated song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4365720"/>
            <a:ext cx="28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3600" spc="-1" strike="noStrike">
                <a:solidFill>
                  <a:srgbClr val="ffffff"/>
                </a:solidFill>
                <a:latin typeface="Georgia"/>
              </a:rPr>
              <a:t>or compared them to El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3673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3660840"/>
            <a:ext cx="4500720" cy="3197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00720" y="3670200"/>
            <a:ext cx="4643280" cy="3187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6615000" y="0"/>
            <a:ext cx="2529000" cy="3645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9280" y="1052640"/>
            <a:ext cx="32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Others focused on their film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125892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4932360" y="5734080"/>
            <a:ext cx="1357200" cy="981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984680" cy="2951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5292720" y="3716280"/>
            <a:ext cx="1133640" cy="1757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179280" y="5229360"/>
            <a:ext cx="1094040" cy="1484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264360" cy="6264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32720" y="1773360"/>
            <a:ext cx="2036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These are some of th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89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3500280"/>
            <a:ext cx="187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their look and clothes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979640" y="3500280"/>
            <a:ext cx="2741760" cy="32133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50920" y="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and their concern with </a:t>
            </a:r>
            <a:r>
              <a:rPr b="1" lang="es-ES" sz="4000" spc="-1" strike="noStrike">
                <a:solidFill>
                  <a:srgbClr val="ffffff"/>
                </a:solidFill>
                <a:latin typeface="Georgia"/>
              </a:rPr>
              <a:t>peace</a:t>
            </a:r>
            <a:r>
              <a:rPr b="0" lang="es-ES" sz="40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eorgia"/>
              </a:rPr>
              <a:t>We hope you have enjoyed this tour of our students’ hard work on one of the most favourite bands ev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716280"/>
            <a:ext cx="38163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eorgia"/>
              </a:rPr>
              <a:t>Our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Villar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Ale De Maur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aría Elena Fernánd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Pat del Cast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Mirta Friei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eorgia"/>
              </a:rPr>
              <a:t>Miss Vicky Sau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327320" cy="1440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203640" y="1844640"/>
            <a:ext cx="5759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860640"/>
            <a:ext cx="3168720" cy="2997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A brought picture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95280" y="1346040"/>
            <a:ext cx="8426520" cy="55119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042920" y="836640"/>
            <a:ext cx="3662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nd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3860640"/>
            <a:ext cx="2987640" cy="2737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Georgia"/>
              </a:rPr>
              <a:t>2nd B also brought photos and wrote about The Beat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529416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2:54:31Z</dcterms:created>
  <dc:creator>Vicky</dc:creator>
  <dc:description/>
  <dc:language>en-US</dc:language>
  <cp:lastModifiedBy>Vicky</cp:lastModifiedBy>
  <dcterms:modified xsi:type="dcterms:W3CDTF">2007-08-20T12:17:07Z</dcterms:modified>
  <cp:revision>8</cp:revision>
  <dc:subject/>
  <dc:title>Diapositiva 1</dc:title>
</cp:coreProperties>
</file>