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90E-9335-4FF6-8335-33B77DCE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41A-77FF-472A-991D-B0676F43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A8B-8973-4846-B1CD-0E7C3146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E50-F911-4718-A9DC-300684E6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1B09-F180-478F-B9DB-2AA64277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50F6-F46C-4A6D-B474-9C5F29E7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5769-B820-473B-B0BD-14E08FC8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BF88-7C69-4053-9CED-2365D421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962C-28C8-4E95-A126-165DC409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BD11-C2BE-4831-8BDC-972457E2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E4D9-BED0-443F-8E10-27FDEB0D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DD0-6571-4411-9E13-3CD46018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BD6A-0792-481A-BAB6-FDDDA144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49E3-400E-4983-93BF-0E446BC7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97EF-5A09-4ADE-9A79-7084E11B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FF38-4B2A-4049-8376-650F0D79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F985-7C8D-4B22-A0FC-01430491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736-D773-4837-9077-24F1042E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3305-A509-4E04-BB2B-D29CEF1D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4F0-B12D-4231-9002-D02A7CED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965-BB12-468C-8893-AE310C71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AB0-93CB-45D5-8CF2-1F4F6C9C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0DA-400D-45A8-8C8A-B8267699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B2F-74A5-4C12-9571-EE6FFB92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9448-FB04-494D-9855-3CE1EEBC6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6B42-84C8-4BB4-A6B0-5B89DC5C04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3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83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46200" y="5084640"/>
            <a:ext cx="84978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Harrington"/>
              </a:rPr>
              <a:t>The Beatles Exhibi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Harrington"/>
              </a:rPr>
              <a:t>June 2007 - Instituto San Francisco de As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8360" y="5734080"/>
            <a:ext cx="676080" cy="733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32000" y="277920"/>
            <a:ext cx="375444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3rd A and B made posters and described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464000" y="3348000"/>
            <a:ext cx="4680000" cy="3510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564000" y="2811600"/>
            <a:ext cx="5580000" cy="40464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2262240" cy="2852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897600" y="0"/>
            <a:ext cx="2246400" cy="2852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564000" cy="4581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0" y="4557600"/>
            <a:ext cx="3564000" cy="2300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627280" y="0"/>
            <a:ext cx="197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6th A  and B answered questions about the p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620640"/>
            <a:ext cx="212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2nd Hum, 3rd CBU and       3rd Hum compared the message in Imagine and two other so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82752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3rd Hum also commented on some John Lennon quo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337356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608360" y="3456000"/>
            <a:ext cx="4535640" cy="3402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346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As an optional project students from 3rd CBU and 3rd H could choose any aspect of The Beatles to work on and produce a poster. Here are the result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788000" y="3807000"/>
            <a:ext cx="4066920" cy="3051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24000" y="3773520"/>
            <a:ext cx="4211640" cy="30844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63640" y="3645000"/>
            <a:ext cx="55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Some chose to work on their lives as a group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2464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724360" y="404640"/>
            <a:ext cx="30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or individua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867280" y="2492280"/>
            <a:ext cx="3078360" cy="41036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248000" y="0"/>
            <a:ext cx="4896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232160" cy="5516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Georgia"/>
              </a:rPr>
              <a:t>During the month of June we hosted theBeatles Exhibition, which was kindly lent to us by the British Council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The exhibition consisted of 18 posters with information about The Beatles car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All the students in our school saw the exhibition and carried out activities related to The Beat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Come and join us in this tour of our students’ pro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4797360"/>
            <a:ext cx="8208720" cy="165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730240" cy="3639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132000" y="1052640"/>
            <a:ext cx="2679840" cy="35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867280" y="1052640"/>
            <a:ext cx="2694240" cy="35924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0000" cy="3360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1628640"/>
            <a:ext cx="37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Some chose to write about John’s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5092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Some chose to write about society at their time and their infl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669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95280" y="40464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Some wrote about their music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736040" y="4724280"/>
            <a:ext cx="1407960" cy="19130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435640" y="692280"/>
            <a:ext cx="345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y translated song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5867280" y="270828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2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9280" y="4365720"/>
            <a:ext cx="28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or compared them to Elv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4560" cy="36734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0" y="3660840"/>
            <a:ext cx="4500720" cy="3197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500720" y="3670200"/>
            <a:ext cx="4643280" cy="3187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6615000" y="0"/>
            <a:ext cx="2529000" cy="3645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79280" y="105264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Others focused on their films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179280" y="3789360"/>
            <a:ext cx="1258920" cy="1092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4932360" y="5734080"/>
            <a:ext cx="1357200" cy="981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6948360" y="333360"/>
            <a:ext cx="1984680" cy="2951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5292720" y="3716280"/>
            <a:ext cx="1133640" cy="17575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9"/>
          <a:stretch/>
        </p:blipFill>
        <p:spPr>
          <a:xfrm>
            <a:off x="179280" y="5229360"/>
            <a:ext cx="1094040" cy="1484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264360" cy="6264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732720" y="1773360"/>
            <a:ext cx="2036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These are some of the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89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3500280"/>
            <a:ext cx="1871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ir look and clothes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1979640" y="3500280"/>
            <a:ext cx="2741760" cy="32133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50920" y="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and their concern with </a:t>
            </a:r>
            <a:r>
              <a:rPr b="1" lang="es-ES" sz="4000" spc="-1" strike="noStrike">
                <a:solidFill>
                  <a:srgbClr val="ffffff"/>
                </a:solidFill>
                <a:latin typeface="Georgia"/>
              </a:rPr>
              <a:t>peace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24000" y="476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We hope you have enjoyed this tour of our students’ hard work on one of the most favourite bands ev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2360" y="3716280"/>
            <a:ext cx="381636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eorgia"/>
              </a:rPr>
              <a:t>Our staf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Ale Villarr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Ale De Maur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María Elena Fernánd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Pat del Cast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Mirta Friei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Vicky Saum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327320" cy="1440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3203640" y="1844640"/>
            <a:ext cx="57592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nd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860640"/>
            <a:ext cx="3168720" cy="2997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2nd A brought pictures and wrote about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95280" y="1346040"/>
            <a:ext cx="8426520" cy="55119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042920" y="836640"/>
            <a:ext cx="36622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nd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3860640"/>
            <a:ext cx="2987640" cy="2737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2nd B also brought photos and wrote about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374840"/>
            <a:ext cx="8207280" cy="52941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22:54:31Z</dcterms:created>
  <dc:creator>Vicky</dc:creator>
  <dc:description/>
  <dc:language>en-US</dc:language>
  <cp:lastModifiedBy>Vicky</cp:lastModifiedBy>
  <dcterms:modified xsi:type="dcterms:W3CDTF">2007-08-20T12:17:07Z</dcterms:modified>
  <cp:revision>8</cp:revision>
  <dc:subject/>
  <dc:title>Diapositiva 1</dc:title>
</cp:coreProperties>
</file>