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35.jpeg" ContentType="image/jpeg"/>
  <Override PartName="/ppt/media/image1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AF5-8631-41CD-82BF-0F8C7178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B5D-D47C-42E1-8D1C-44A4A44B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0424-FDEA-4BE7-B9C1-88FD785F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BFC-47AC-457C-9930-77855FA3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F99C-C49C-4537-AA37-980F28BA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3760-9144-42BE-9BC5-6F51AEA0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436D-BA62-49DF-A6E1-956CAEFD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9B89-D438-46DD-826A-EB796914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BD83-B9D9-482C-B8B3-2C28CBB9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5C05-01B4-412B-B461-D79DCAA6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3BA5-0D1B-4C26-AECE-24BC438A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175-7E18-4D1C-B47A-7BE0E8EE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9112-5C96-483F-9844-B43B4E36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8B7B-EB55-4223-ABBF-C3F570B3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68EA-B5A5-4BB1-9ADC-8CE9BCC7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2C27-0638-47E6-A5AE-92414E53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01BD-8EC4-4A6E-90DD-4FA6D50F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1DD-5FB7-4C8F-9C99-6608946C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FA8F-C30B-421E-AC10-91A7FD83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95F0-AA15-45FA-917F-781266B1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C49-9D02-4514-B188-C209547D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AEB-22DA-4F26-8021-A3703C1D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83B2-8C39-4ABB-8796-B399ABFE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79BB-31A9-4FB1-967B-A2597E74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1715-E46A-4742-A715-173ADD12E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085E-F3EE-4A32-862C-91109A354A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3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image" Target="../media/image57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83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46200" y="5084640"/>
            <a:ext cx="849780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Harrington"/>
              </a:rPr>
              <a:t>The Beatles Exhibi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Harrington"/>
              </a:rPr>
              <a:t>June 2007 - Instituto San Francisco de As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8360" y="5734080"/>
            <a:ext cx="676080" cy="733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32000" y="277920"/>
            <a:ext cx="3754440" cy="27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3rd A and B made posters and described The Beat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464000" y="3348000"/>
            <a:ext cx="4680000" cy="3510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564000" y="2811600"/>
            <a:ext cx="5580000" cy="40464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2262240" cy="2852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897600" y="0"/>
            <a:ext cx="2246400" cy="2852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564000" cy="4581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0" y="4557600"/>
            <a:ext cx="3564000" cy="2300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627280" y="0"/>
            <a:ext cx="197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eorgia"/>
              </a:rPr>
              <a:t>6th A  and B answered questions about the po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620640"/>
            <a:ext cx="212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eorgia"/>
              </a:rPr>
              <a:t>2nd Hum, 3rd CBU and       3rd Hum compared the message in Imagine and two other so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82752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3rd Hum also commented on some John Lennon quo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3373560"/>
            <a:ext cx="4643280" cy="3484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608360" y="3456000"/>
            <a:ext cx="4535640" cy="3402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346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eorgia"/>
              </a:rPr>
              <a:t>As an optional project students from 3rd CBU and 3rd H could choose any aspect of The Beatles to work on and produce a poster. Here are the result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788000" y="3807000"/>
            <a:ext cx="4066920" cy="3051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24000" y="3773520"/>
            <a:ext cx="4211640" cy="30844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763640" y="3645000"/>
            <a:ext cx="554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Some chose to work on their lives as a group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2464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724360" y="404640"/>
            <a:ext cx="30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… 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or individual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867280" y="2492280"/>
            <a:ext cx="3078360" cy="410364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248000" y="0"/>
            <a:ext cx="4896000" cy="6858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4232160" cy="55162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Georgia"/>
              </a:rPr>
              <a:t>During the month of June we hosted theBeatles Exhibition, which was kindly lent to us by the British Council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479736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The exhibition consisted of 18 posters with information about The Beatles care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All the students in our school saw the exhibition and carried out activities related to The Beat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Come and join us in this tour of our students’ pro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4797360"/>
            <a:ext cx="8208720" cy="165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730240" cy="3639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132000" y="1052640"/>
            <a:ext cx="2679840" cy="3573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867280" y="1052640"/>
            <a:ext cx="2694240" cy="359244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80000" cy="33606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1628640"/>
            <a:ext cx="37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eorgia"/>
              </a:rPr>
              <a:t>Some chose to write about John’s de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50920" y="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eorgia"/>
              </a:rPr>
              <a:t>Some chose to write about society at their time and their influ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669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95280" y="404640"/>
            <a:ext cx="32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Some wrote about their music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736040" y="4724280"/>
            <a:ext cx="1407960" cy="191304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435640" y="692280"/>
            <a:ext cx="345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They translated songs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795672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5867280" y="270828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2" dur="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79280" y="4365720"/>
            <a:ext cx="28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0" lang="es-ES" sz="3600" spc="-1" strike="noStrike">
                <a:solidFill>
                  <a:srgbClr val="ffffff"/>
                </a:solidFill>
                <a:latin typeface="Georgia"/>
              </a:rPr>
              <a:t>or compared them to Elvi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94560" cy="36734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0" y="3660840"/>
            <a:ext cx="4500720" cy="3197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4500720" y="3670200"/>
            <a:ext cx="4643280" cy="3187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6615000" y="0"/>
            <a:ext cx="2529000" cy="3645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79280" y="1052640"/>
            <a:ext cx="32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Others focused on their films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179280" y="3789360"/>
            <a:ext cx="1258920" cy="10922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4932360" y="5734080"/>
            <a:ext cx="1357200" cy="981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6948360" y="333360"/>
            <a:ext cx="1984680" cy="29512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8"/>
          <a:stretch/>
        </p:blipFill>
        <p:spPr>
          <a:xfrm>
            <a:off x="5292720" y="3716280"/>
            <a:ext cx="1133640" cy="17575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9"/>
          <a:stretch/>
        </p:blipFill>
        <p:spPr>
          <a:xfrm>
            <a:off x="179280" y="5229360"/>
            <a:ext cx="1094040" cy="14842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6264360" cy="6264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732720" y="1773360"/>
            <a:ext cx="2036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eorgia"/>
              </a:rPr>
              <a:t>These are some of the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3894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4767120" y="0"/>
            <a:ext cx="437688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0" y="3500280"/>
            <a:ext cx="1871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… 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their look and clothes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1979640" y="3500280"/>
            <a:ext cx="2741760" cy="32133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50920" y="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and their concern with </a:t>
            </a:r>
            <a:r>
              <a:rPr b="1" lang="es-ES" sz="4000" spc="-1" strike="noStrike">
                <a:solidFill>
                  <a:srgbClr val="ffffff"/>
                </a:solidFill>
                <a:latin typeface="Georgia"/>
              </a:rPr>
              <a:t>peace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24000" y="47628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eorgia"/>
              </a:rPr>
              <a:t>We hope you have enjoyed this tour of our students’ hard work on one of the most favourite bands ev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32360" y="3716280"/>
            <a:ext cx="381636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eorgia"/>
              </a:rPr>
              <a:t>Our staf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Ale Villarr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Ale De Maur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María Elena Fernánd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Pat del Cast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Mirta Friei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Vicky Saum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1327320" cy="1440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3203640" y="1844640"/>
            <a:ext cx="57592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nd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860640"/>
            <a:ext cx="3168720" cy="2997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2nd A brought pictures and wrote about The Beat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95280" y="1346040"/>
            <a:ext cx="8426520" cy="55119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042920" y="836640"/>
            <a:ext cx="36622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nd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6156360" y="3860640"/>
            <a:ext cx="2987640" cy="2737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2nd B also brought photos and wrote about The Beat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8360" y="1374840"/>
            <a:ext cx="8207280" cy="52941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22:54:31Z</dcterms:created>
  <dc:creator>Vicky</dc:creator>
  <dc:description/>
  <dc:language>en-US</dc:language>
  <cp:lastModifiedBy>Vicky</cp:lastModifiedBy>
  <dcterms:modified xsi:type="dcterms:W3CDTF">2007-08-20T12:17:07Z</dcterms:modified>
  <cp:revision>8</cp:revision>
  <dc:subject/>
  <dc:title>Diapositiva 1</dc:title>
</cp:coreProperties>
</file>