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20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24.jpeg" ContentType="image/jpeg"/>
  <Override PartName="/ppt/media/image67.jpeg" ContentType="image/jpeg"/>
  <Override PartName="/ppt/media/image6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DD2-9009-424F-8877-74656C16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F7D-CA2A-425B-AB04-AE64B2C6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87D-F48A-46FB-8ED5-74EFE13D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382-9BAE-41D5-9DDD-29528515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0105-B92A-46E2-9A6D-8DE63922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0B53-2E02-4883-9716-10853B4E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F32-3C42-4158-8771-0547811A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7580-172D-4CD2-950E-CCB69EA6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FCD4-AC14-468E-AAC0-C754F223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563C-1243-42E5-B768-F7B7BCF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CB31-B96B-485B-9F10-8437D174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EC9-D217-4AB9-B773-1866228A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D082-7F34-4B75-9C7A-307ED26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F91-2BCD-43E7-9158-647F6F21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D02A-FA80-4EB5-B842-8F19EF66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13ED-A517-4BFD-94DF-DB9A089F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ABD2-FB32-48F2-9887-AF51A5AE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EDD-836C-489B-B1AA-21B89FAD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859-4B62-4097-9B4D-D175DFE0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E11-B596-4CA9-818A-E70EBAF9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4DF-B04A-4984-9A39-931C653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F27-CF67-49E3-9290-12BE4DD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56D-F345-47BD-B5D5-3E701C55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4A9-1D79-427C-B107-B6C59675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613B-6D4D-47BC-AEE0-77E0939BA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5A38-E7DB-4B5A-BC17-303735AFD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3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image" Target="../media/image66.jpe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8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6200" y="5084640"/>
            <a:ext cx="84978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Harrington"/>
              </a:rPr>
              <a:t>The Beatles Exhibi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arrington"/>
              </a:rPr>
              <a:t>June 2007 - Instituto San Francisco de As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67608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B also brought photo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52941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32000" y="277920"/>
            <a:ext cx="3754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A and B made posters and described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464000" y="334800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564000" y="2811600"/>
            <a:ext cx="5580000" cy="40464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262240" cy="2852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897600" y="0"/>
            <a:ext cx="2246400" cy="2852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4557600"/>
            <a:ext cx="3564000" cy="2300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627280" y="0"/>
            <a:ext cx="19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6th A  and B answered questions about the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620640"/>
            <a:ext cx="212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2nd Hum, 3rd CBU and       3rd Hum compared the message in Imagine and two other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8275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Hum also commented on some John Lennon quo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608360" y="34560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34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As an optional project students from 3rd CBU and 3rd H could choose any aspect of The Beatles to work on and produce a poster. Here are the result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788000" y="380700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211640" cy="3084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63640" y="3645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chose to work on their lives as a group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Georgia"/>
              </a:rPr>
              <a:t>During the month of June we hosted theBeatles Exhibition, which was kindly lent to us by the British Counci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The exhibition consisted of 18 posters with information about The Beatles car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All the students in our school saw the exhibition and carried out activities related to The Beat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me and join us in this tour of our students’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797360"/>
            <a:ext cx="8208720" cy="16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0240" cy="363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2694240" cy="35924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724360" y="40464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r individua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3078360" cy="41036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32160" cy="5516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4211640" cy="5158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0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360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162864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Some chose to write about John’s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Some chose to write about society at their time and their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669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5280" y="404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wrote about their music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1773360"/>
            <a:ext cx="2036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These are some of th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736040" y="4724280"/>
            <a:ext cx="1407960" cy="19130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4000" y="1268280"/>
            <a:ext cx="374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worked on vocabulary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435640" y="692280"/>
            <a:ext cx="34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translated song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6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43657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or compared them to El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3673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3660840"/>
            <a:ext cx="4500720" cy="3197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500720" y="3670200"/>
            <a:ext cx="4643280" cy="31878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615000" y="0"/>
            <a:ext cx="2529000" cy="3645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79280" y="1052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thers focused on their film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1258920" cy="10922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932360" y="5734080"/>
            <a:ext cx="1357200" cy="981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984680" cy="295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5292720" y="3716280"/>
            <a:ext cx="1133640" cy="17575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179280" y="5229360"/>
            <a:ext cx="1094040" cy="1484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89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3500280"/>
            <a:ext cx="187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ir look and clothe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2741760" cy="32133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50920" y="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and their concern with </a:t>
            </a: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peace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00000" y="1413000"/>
            <a:ext cx="705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Georgia"/>
              </a:rPr>
              <a:t>And these are our students’ production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2400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We hope you have enjoyed this tour of our students’ hard work on one of the most favourite bands ev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3716280"/>
            <a:ext cx="38163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eorgia"/>
              </a:rPr>
              <a:t>Our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Villar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De Maur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aría Elena Fernánd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Pat del Cast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irta Fri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Vicky Sau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327320" cy="1440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260280"/>
            <a:ext cx="856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eorgia"/>
              </a:rPr>
              <a:t>Kinder 4</a:t>
            </a: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 prepared some folders with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with the help of their famil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and sang LOVE ME DO. Listen u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856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0920" y="33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eorgia"/>
              </a:rPr>
              <a:t>Kinder 5 also prepared some folders with information about the Beatles and sang YELLOW SUBMARINE. Listen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340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3203640" y="1844640"/>
            <a:ext cx="5759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860640"/>
            <a:ext cx="3168720" cy="2997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A brought picture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346040"/>
            <a:ext cx="8426520" cy="55119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042920" y="836640"/>
            <a:ext cx="3662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3860640"/>
            <a:ext cx="29876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2:54:31Z</dcterms:created>
  <dc:creator>Vicky</dc:creator>
  <dc:description/>
  <dc:language>en-US</dc:language>
  <cp:lastModifiedBy>Vicky</cp:lastModifiedBy>
  <dcterms:modified xsi:type="dcterms:W3CDTF">2007-11-04T14:06:12Z</dcterms:modified>
  <cp:revision>13</cp:revision>
  <dc:subject/>
  <dc:title>Diapositiva 1</dc:title>
</cp:coreProperties>
</file>