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20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6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C2C-D804-4FB6-89D1-F0B1C67A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827-F801-4B80-B294-167439EC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B29-31F5-4B54-9048-D96E5753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3C1-8C93-4651-AB19-F5A5FB86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4E68-CFFD-4049-8BAB-E1DFAE8E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959A-DBE4-4009-A99A-F2FFB531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83EC-D07B-4D11-91B6-0C4FC7F1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093E-D86F-49B6-ACE6-25D67B2C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5DB4-F1F0-4FC5-B692-3677DD21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8BED-F582-45BE-980B-A02C7394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A081-7ED9-4FB1-A763-E922601A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271-4992-41D0-B7BA-C778A389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E8A8-0F13-4EA4-A7CA-05F2186C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8748-B4FB-437E-A2D6-279D89F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B881-6205-4D56-81D9-47CD0439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2A0F-3778-4191-B887-BF4F4D81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4796-5C0B-407B-9092-510DC5AA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744-C7A1-46D9-BADC-C06B70B4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B3B-ABA3-46EF-A1D8-53634558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525-A2AD-4046-9C12-8AA6A09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7FF-F898-40C4-A191-7EF9F38A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B90-EC1F-4116-A6A3-7E8554BC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D73-60D6-4FD7-985A-E14F6AA8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2F2-4D91-42C0-88F6-AC0BD682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9DB8-84E0-4453-944A-1C06FC4A1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978C-A245-4828-A6FF-5158F0195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3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image" Target="../media/image66.jpe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8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6200" y="5084640"/>
            <a:ext cx="84978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Harrington"/>
              </a:rPr>
              <a:t>The Beatles Exhibi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Harrington"/>
              </a:rPr>
              <a:t>June 2007 - Instituto San Francisco de As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5734080"/>
            <a:ext cx="67608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B also brought photo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8360" y="1374840"/>
            <a:ext cx="8207280" cy="52941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32000" y="277920"/>
            <a:ext cx="3754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A and B made posters and described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464000" y="334800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564000" y="2811600"/>
            <a:ext cx="5580000" cy="4046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2262240" cy="2852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897600" y="0"/>
            <a:ext cx="2246400" cy="2852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564000" cy="4581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0" y="4557600"/>
            <a:ext cx="3564000" cy="2300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627280" y="0"/>
            <a:ext cx="19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6th A  and B answered questions about the p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620640"/>
            <a:ext cx="212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2nd Hum, 3rd CBU and       3rd Hum compared the message in Imagine and two other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8275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Hum also commented on some John Lennon quo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608360" y="345600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346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As an optional project students from 3rd CBU and 3rd H could choose any aspect of The Beatles to work on and produce a poster. Here are the result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788000" y="3807000"/>
            <a:ext cx="4066920" cy="3051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24000" y="3773520"/>
            <a:ext cx="4211640" cy="30844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63640" y="364500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chose to work on their lives as a group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Georgia"/>
              </a:rPr>
              <a:t>During the month of June we hosted theBeatles Exhibition, which was kindly lent to us by the British Counci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The exhibition consisted of 18 posters with information about The Beatles car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All the students in our school saw the exhibition and carried out activities related to The Beat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ome and join us in this tour of our students’ pro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797360"/>
            <a:ext cx="8208720" cy="165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0240" cy="363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2679840" cy="35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867280" y="1052640"/>
            <a:ext cx="2694240" cy="35924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2464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724360" y="404640"/>
            <a:ext cx="30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r individua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867280" y="2492280"/>
            <a:ext cx="3078360" cy="41036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248000" y="0"/>
            <a:ext cx="4896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232160" cy="5516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4211640" cy="5158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0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360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162864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Some chose to write about John’s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5092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Some chose to write about society at their time and their infl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669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95280" y="404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wrote about their music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32720" y="1773360"/>
            <a:ext cx="2036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These are some of th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736040" y="4724280"/>
            <a:ext cx="1407960" cy="19130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4000" y="1268280"/>
            <a:ext cx="37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worked on vocabulary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435640" y="692280"/>
            <a:ext cx="345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translated song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6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436572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or compared them to Elv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3673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3660840"/>
            <a:ext cx="4500720" cy="3197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500720" y="3670200"/>
            <a:ext cx="4643280" cy="3187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615000" y="0"/>
            <a:ext cx="2529000" cy="3645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79280" y="1052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thers focused on their film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1258920" cy="1092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932360" y="5734080"/>
            <a:ext cx="1357200" cy="981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984680" cy="2951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5292720" y="3716280"/>
            <a:ext cx="1133640" cy="17575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179280" y="5229360"/>
            <a:ext cx="1094040" cy="1484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89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3500280"/>
            <a:ext cx="1871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ir look and clothe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2741760" cy="32133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0920" y="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and their concern with </a:t>
            </a:r>
            <a:r>
              <a:rPr b="1" lang="es-ES" sz="4000" spc="-1" strike="noStrike">
                <a:solidFill>
                  <a:srgbClr val="ffffff"/>
                </a:solidFill>
                <a:latin typeface="Georgia"/>
              </a:rPr>
              <a:t>peace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00000" y="1413000"/>
            <a:ext cx="705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Georgia"/>
              </a:rPr>
              <a:t>And these are our students’ production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400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We hope you have enjoyed this tour of our students’ hard work on one of the most favourite bands ev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3716280"/>
            <a:ext cx="38163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eorgia"/>
              </a:rPr>
              <a:t>Our staf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Villar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De Maur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aría Elena Fernánd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Pat del Cast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irta Friei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Vicky Saum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327320" cy="1440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260280"/>
            <a:ext cx="856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eorgia"/>
              </a:rPr>
              <a:t>Kinder 4</a:t>
            </a: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 prepared some folders with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with the help of their famil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and sang LOVE ME DO. Listen u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856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0920" y="33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Kinder 5 also prepared some folders with information about the Beatles and sang YELLOW SUBMARINE. Listen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340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3203640" y="1844640"/>
            <a:ext cx="5759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860640"/>
            <a:ext cx="3168720" cy="2997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A brought picture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1346040"/>
            <a:ext cx="8426520" cy="55119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042920" y="836640"/>
            <a:ext cx="3662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3860640"/>
            <a:ext cx="2987640" cy="273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22:54:31Z</dcterms:created>
  <dc:creator>Vicky</dc:creator>
  <dc:description/>
  <dc:language>en-US</dc:language>
  <cp:lastModifiedBy>Vicky</cp:lastModifiedBy>
  <dcterms:modified xsi:type="dcterms:W3CDTF">2007-11-04T14:06:12Z</dcterms:modified>
  <cp:revision>13</cp:revision>
  <dc:subject/>
  <dc:title>Diapositiva 1</dc:title>
</cp:coreProperties>
</file>