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20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24.jpeg" ContentType="image/jpeg"/>
  <Override PartName="/ppt/media/image67.jpeg" ContentType="image/jpeg"/>
  <Override PartName="/ppt/media/image6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DDF-08FC-48C2-81B7-0D143500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7D0-6122-4238-83F6-8B134B8C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C1D-24BC-4691-8E91-97E2B7B9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591-D601-4E51-87AE-8D0EB7AB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02E6-3877-4ABA-BC73-B42983A9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D502-71AE-4EEE-947A-258A6878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93B2-7F9F-43A5-A87C-A91670FB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35BD-08D2-4806-92C1-1817EB93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ADFB-BC96-45BD-BECE-AADBE440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FB54-2894-4800-AB27-56D14CD8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17DB-05FB-4BA7-9994-54DD266B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9D5-19B3-4CE3-8CFB-876BB69D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C121-3957-4F18-A152-90A4FB1E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4207-E115-4BA6-A7D5-8EFCE144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63A8-DF5E-411E-9E05-8F4BBAA9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89D0-AA0F-4056-B169-6289844F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5629-98D1-4D9D-A2DB-9827A749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777-DBBE-4768-8532-99A79940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F03-DCC0-4F5F-8D33-578982A0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F2E-E457-4760-91BA-68EE2CE8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A0C-2267-445F-8366-12300F0F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97E-F094-42A6-A58D-A8753BF7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ED7-6D49-4070-9142-0DF40FD2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953-4487-409D-BDC4-FC35DE96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5015-F2CC-482F-B443-662D5AEB2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2561-F9F5-4DAA-B62C-D5CF4B6E2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3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image" Target="../media/image65.jpeg"/><Relationship Id="rId9" Type="http://schemas.openxmlformats.org/officeDocument/2006/relationships/image" Target="../media/image66.jpe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83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46200" y="5084640"/>
            <a:ext cx="84978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Harrington"/>
              </a:rPr>
              <a:t>The Beatles Exhibi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Harrington"/>
              </a:rPr>
              <a:t>June 2007 - Instituto San Francisco de As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8360" y="5734080"/>
            <a:ext cx="676080" cy="733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2nd B also brought photos and wrote about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8360" y="1374840"/>
            <a:ext cx="8207280" cy="52941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32000" y="277920"/>
            <a:ext cx="375444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3rd A and B made posters and described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464000" y="3348000"/>
            <a:ext cx="4680000" cy="3510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564000" y="2811600"/>
            <a:ext cx="5580000" cy="4046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2262240" cy="2852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6897600" y="0"/>
            <a:ext cx="2246400" cy="2852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564000" cy="4581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0" y="4557600"/>
            <a:ext cx="3564000" cy="2300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627280" y="0"/>
            <a:ext cx="197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6th A  and B answered questions about the p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0" y="620640"/>
            <a:ext cx="212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2nd Hum, 3rd CBU and       3rd Hum compared the message in Imagine and two other so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82752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3rd Hum also commented on some John Lennon quo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337356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608360" y="3456000"/>
            <a:ext cx="4535640" cy="3402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346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As an optional project students from 3rd CBU and 3rd H could choose any aspect of The Beatles to work on and produce a poster. Here are the result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788000" y="3807000"/>
            <a:ext cx="4066920" cy="3051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324000" y="3773520"/>
            <a:ext cx="4211640" cy="30844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763640" y="3645000"/>
            <a:ext cx="55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Some chose to work on their lives as a group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Georgia"/>
              </a:rPr>
              <a:t>During the month of June we hosted theBeatles Exhibition, which was kindly lent to us by the British Council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The exhibition consisted of 18 posters with information about The Beatles car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All the students in our school saw the exhibition and carried out activities related to The Beat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Come and join us in this tour of our students’ pro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4797360"/>
            <a:ext cx="8208720" cy="165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730240" cy="3639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132000" y="1052640"/>
            <a:ext cx="2679840" cy="35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867280" y="1052640"/>
            <a:ext cx="2694240" cy="35924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2464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724360" y="404640"/>
            <a:ext cx="30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or individua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867280" y="2492280"/>
            <a:ext cx="3078360" cy="41036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248000" y="0"/>
            <a:ext cx="4896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232160" cy="5516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932360" y="907920"/>
            <a:ext cx="4211640" cy="5158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0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0000" cy="3360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1628640"/>
            <a:ext cx="37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Some chose to write about John’s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5092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Some chose to write about society at their time and their infl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669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95280" y="40464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Some wrote about their music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264360" cy="6264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732720" y="1773360"/>
            <a:ext cx="2036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These are some of the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7736040" y="4724280"/>
            <a:ext cx="1407960" cy="19130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321080" y="0"/>
            <a:ext cx="482292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427640" cy="3213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24000" y="1268280"/>
            <a:ext cx="374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y worked on vocabulary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435640" y="692280"/>
            <a:ext cx="345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y translated song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867280" y="270828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6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79280" y="4365720"/>
            <a:ext cx="28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or compared them to Elv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4560" cy="3673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3660840"/>
            <a:ext cx="4500720" cy="31971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500720" y="3670200"/>
            <a:ext cx="4643280" cy="31878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6615000" y="0"/>
            <a:ext cx="2529000" cy="3645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79280" y="105264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Others focused on their films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179280" y="3789360"/>
            <a:ext cx="1258920" cy="10922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4932360" y="5734080"/>
            <a:ext cx="1357200" cy="981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6948360" y="333360"/>
            <a:ext cx="1984680" cy="2951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8"/>
          <a:stretch/>
        </p:blipFill>
        <p:spPr>
          <a:xfrm>
            <a:off x="5292720" y="3716280"/>
            <a:ext cx="1133640" cy="17575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179280" y="5229360"/>
            <a:ext cx="1094040" cy="1484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89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3500280"/>
            <a:ext cx="1871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ir look and clothes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1979640" y="3500280"/>
            <a:ext cx="2741760" cy="32133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50920" y="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and their concern with </a:t>
            </a:r>
            <a:r>
              <a:rPr b="1" lang="es-ES" sz="4000" spc="-1" strike="noStrike">
                <a:solidFill>
                  <a:srgbClr val="ffffff"/>
                </a:solidFill>
                <a:latin typeface="Georgia"/>
              </a:rPr>
              <a:t>peace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00000" y="1413000"/>
            <a:ext cx="7056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ffff"/>
                </a:solidFill>
                <a:latin typeface="Georgia"/>
              </a:rPr>
              <a:t>And these are our students’ productions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4000" y="476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We hope you have enjoyed this tour of our students’ hard work on one of the most favourite bands ev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32360" y="3716280"/>
            <a:ext cx="381636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eorgia"/>
              </a:rPr>
              <a:t>Our staf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Ale Villarr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Ale De Maur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María Elena Fernánd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Pat del Cast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Mirta Friei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Vicky Saum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327320" cy="1440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0920" y="260280"/>
            <a:ext cx="8569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eorgia"/>
              </a:rPr>
              <a:t>Kinder 4</a:t>
            </a:r>
            <a:r>
              <a:rPr b="0" lang="es-ES" sz="2800" spc="-1" strike="noStrike">
                <a:solidFill>
                  <a:srgbClr val="ffffff"/>
                </a:solidFill>
                <a:latin typeface="Georgia"/>
              </a:rPr>
              <a:t> prepared some folders with infor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eorgia"/>
              </a:rPr>
              <a:t>with the help of their famil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eorgia"/>
              </a:rPr>
              <a:t>and sang LOVE ME DO. Listen up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856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50920" y="33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eorgia"/>
              </a:rPr>
              <a:t>Kinder 5 also prepared some folders with information about the Beatles and sang YELLOW SUBMARINE. Listen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340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3203640" y="1844640"/>
            <a:ext cx="57592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nd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860640"/>
            <a:ext cx="3168720" cy="2997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824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2nd A brought pictures and wrote about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1346040"/>
            <a:ext cx="8426520" cy="55119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1042920" y="836640"/>
            <a:ext cx="36622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nd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3860640"/>
            <a:ext cx="2987640" cy="2737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22:54:31Z</dcterms:created>
  <dc:creator>Vicky</dc:creator>
  <dc:description/>
  <dc:language>en-US</dc:language>
  <cp:lastModifiedBy>Vicky</cp:lastModifiedBy>
  <dcterms:modified xsi:type="dcterms:W3CDTF">2007-11-04T14:06:12Z</dcterms:modified>
  <cp:revision>13</cp:revision>
  <dc:subject/>
  <dc:title>Diapositiva 1</dc:title>
</cp:coreProperties>
</file>