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20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1D8-C181-4EE1-8F7D-0EBC8DEA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63B-E988-47A5-B48F-8306B327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61E-CE6D-45CC-B64F-099899FA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1C9-3895-4BA8-BEA8-B5842366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82AA-01CB-4F65-AACB-1C60093A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D15E-6B27-42F4-A509-F02A7B02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D14-5424-4320-BC36-09AA10B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5C51-B667-4F95-B0ED-133A2388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1BA1-F718-4A6A-9A80-D6F95C06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6BF-7B9E-47B3-8B05-62DF120F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E26B-BC39-4F48-A8D7-DF8CCF3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E97-9C8D-4AE1-AA5A-E6049F1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A15A-B7F7-4CFF-845B-9770F22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578-9681-4A9B-97A4-3DFB70A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F97-B0D7-4361-B15C-41614A2E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FBB6-B28A-4E98-B7CF-C9B021FF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0B54-9E1B-4893-A06B-D6E7C3ED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4F5-3A1C-46AD-AE70-3794ADC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191-FA09-4D52-BA0C-B7016288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F1D-3B36-45CF-8AC0-5586D88E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E72-680C-468F-AE08-EC5766F1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EA8-9140-4E1B-9C1B-89FD311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A96-58DF-4FF7-9F14-CFCFC0F4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6B0-4760-4084-BEB6-5B7712B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122B-61B8-4780-8F45-B38CF18CF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0114-EDC3-47BF-B86E-CD2DC7E7B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3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image" Target="../media/image66.jpe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4211640" cy="515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0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4000" y="1268280"/>
            <a:ext cx="37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worked on vocabulary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6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00000" y="1413000"/>
            <a:ext cx="705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Georgia"/>
              </a:rPr>
              <a:t>And these are our students’ production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0280"/>
            <a:ext cx="856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eorgia"/>
              </a:rPr>
              <a:t>Kinder 4</a:t>
            </a: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 prepared some folders with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with the help of their famil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and sang LOVE ME DO. Listen u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856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0920" y="33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Kinder 5 also prepared some folders with information about the Beatles and sang YELLOW SUBMARINE. Listen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340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11-04T14:06:12Z</dcterms:modified>
  <cp:revision>13</cp:revision>
  <dc:subject/>
  <dc:title>Diapositiva 1</dc:title>
</cp:coreProperties>
</file>